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FE6-211D-42EF-ACB1-324B08D1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AEA-596B-4160-BC06-584CA151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E5D-7E9A-4AD4-A941-1A213DB7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3BC-0A9A-4DC3-9FFB-6068BF4E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64A5-EFA4-40F9-9CDB-A870E6C3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312A-52B8-4A43-9315-B2B2BA41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4FDE-CF94-47EF-8AC3-58038B7D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FD74-8491-4736-A8B1-B821159C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19E8-47C4-4D2A-9D10-57BD2BF3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E3B7-F65D-4026-AA31-C5CA2CBF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6BBD-35E7-4850-BE56-9E1FF9B0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5ED-550B-467E-A3B3-3ED85B88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C8C6-0F3B-49BF-8CA4-94230C79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1DAB-8F5F-42FB-88FD-1FBC6B55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A440-2FB6-4B53-AE43-1038FCF5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1622-0894-43FB-B048-53C27129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1638-EC3F-48B1-910E-B1AE2AC9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6F1-CE30-46AA-98DF-65EF6C8F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FA0-22F1-43B0-BC22-32BA5316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5B2-5F02-4F1B-8F9B-88D089CC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F54-9B8B-40C2-8807-C5C40BD5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B1DD-2B40-43A3-8348-8BC5E689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49A-B4D1-41DC-B66B-E2992D35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6FD-AA77-437C-9D51-923367E8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20FC-E094-4824-87F5-35D653B4A2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D7C2-0704-4206-9899-BFF5053BDA1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a Cas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or: Lizzy Knyazhitsk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casa es grande.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 una cocina. Es muy bonit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 un bano. Es limpio y bonito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 una cuarto. Es 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lujoso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y grande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s un comedor. Es 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lujos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y 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ómodo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44:38Z</dcterms:created>
  <dc:creator>knyazhitskyeli</dc:creator>
  <dc:description/>
  <dc:language>en-US</dc:language>
  <cp:lastModifiedBy>knyazhitskyeli</cp:lastModifiedBy>
  <dcterms:modified xsi:type="dcterms:W3CDTF">2011-10-21T18:08:08Z</dcterms:modified>
  <cp:revision>3</cp:revision>
  <dc:subject/>
  <dc:title>La Casa</dc:title>
</cp:coreProperties>
</file>